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875-5023-43BC-8FFC-DA149ADAC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EB1-661A-423A-9A45-15234FF30E9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B75-DA92-4B4E-8D68-5E1A43478F2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AF4-2A3F-488A-8131-D526A57D893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B19-6DD8-4B60-887A-5912754B9A5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4161-F586-45C6-9FDF-A497FA9BF60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2F94-F94D-417D-9C16-89E4431CA44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1873-9E39-429B-A902-4AAD5FFE657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8503-889C-4C6B-8BE0-42853EFD03F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5B9-E291-47F5-8731-9B61B544BC2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35C-2AF7-4CFA-AEFF-8204AB5508F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CBA5-1F91-4B6C-8977-C5728A0DE86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7E7-BD44-49BA-AED2-67AC46A2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13E-F21F-4B73-AA30-E4B5621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811-1D57-4A37-99B7-6092308C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410-D5BF-4D15-A3DE-8BDBEA6E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253-677A-4830-8415-538623C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888-1E97-46DD-8857-C6D30ACB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C4F-5FDE-4568-9014-693B73C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094-751A-4F80-AC99-4B963E8B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2C7-4DE0-4363-B3EA-3DC09CD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336-1646-45EA-8FBE-40B1025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BF7-5EEF-4ACA-BD3B-1EAFED1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81A-23A2-4B1F-9B5C-EAD0909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3FB6-03A0-4D88-84F8-B8CD4753E3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F330-5F3B-4BE3-A94A-BBDF722745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187280" y="2421000"/>
            <a:ext cx="6600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 druhém roce implementace METODIKY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2. 1. 2019, VŠFS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20F7-D13B-497B-8C8E-F539C6DA2C7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11B3-7AA2-499C-B2EC-FDAB1FEA2D4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1AA-620E-4077-83AE-C2084329CD7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843-84A8-4EA9-85FB-E51E6F6B788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7, evidovaných v RIV k 31. 5.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803-5DC6-411F-98B5-1EA3E31CE2F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19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čet hodnoce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940040"/>
          <a:ext cx="7023240" cy="4446360"/>
        </p:xfrm>
        <a:graphic>
          <a:graphicData uri="http://schemas.openxmlformats.org/drawingml/2006/table">
            <a:tbl>
              <a:tblPr/>
              <a:tblGrid>
                <a:gridCol w="3044880"/>
                <a:gridCol w="1319040"/>
                <a:gridCol w="1301760"/>
                <a:gridCol w="1357560"/>
              </a:tblGrid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 realizace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0B1-2E78-40AF-AB6A-46CBDF067DE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3CEB-FBCB-448A-89BD-F7742963ED9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0E25-0278-4C3B-967F-D4DCAB9CC7A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, výzkumné organizace, členové poradních orgánů RV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45E2-6361-4EBF-9FBD-DA5704CFF6C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C98-7D7C-4BC0-B53D-D9331294158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D4AD-5915-4BCC-BB1F-977E31A0F49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EKC</cp:lastModifiedBy>
  <cp:lastPrinted>2018-03-13T15:15:38Z</cp:lastPrinted>
  <dcterms:modified xsi:type="dcterms:W3CDTF">2019-01-22T11:18:33Z</dcterms:modified>
  <cp:revision>114</cp:revision>
  <dc:subject/>
  <dc:title>Prezentace aplikace PowerPoint</dc:title>
</cp:coreProperties>
</file>